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107-2953-448D-9F82-876911CC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051-A42E-4EDD-B2EB-A336AEE4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7B95-C002-4A44-98C4-90EEB6F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187CC-92F0-4D96-8A23-A89058CD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4E148-7097-447A-9EAE-3F0E82D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ECF9A-C0C8-4EAE-A867-4569DB9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4AF5-4D36-48C3-980F-94E9084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39428-5C2A-4D98-A3BF-02C4F29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0532-A811-4C41-AC01-5BD31B5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5E38F-877D-42E8-AD52-08C44A5A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24744-A7DE-4862-9733-718443BF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33530-0BF4-4CBA-BD7B-852D6D01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BD2-E7FB-461E-8F81-93312F4D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B5A18-F551-4442-A482-6EF9EBC5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CFEF9-0558-4617-8EAA-8139F3E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79945-3EF5-49F9-A232-DBC3B75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05DCC-9614-4084-93C9-DDA5A7C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15084-7EEE-49C6-8A4C-D188CE2D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6A41F-B512-42F4-939B-81E93F3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2A02C-CC3D-46A6-A4F4-9F9C6BE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99A2-435F-4EDE-942B-0473148D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D117A-C7DB-4069-96DD-5B12690D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A7FF4-FB8B-4B14-8F50-3BFBACDC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46F-FD02-4CB3-9293-B0E7E7B0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17693-0294-41FA-8777-A29DBA60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DF10E-3B86-4394-8F40-76110C13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7528E-B1FE-45DD-9793-D214D0B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8E71A-9819-4407-9D91-01FD4A3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E18A-F60E-49B9-9ACA-65C5D49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A7E78-13D0-4258-B27E-46DE6AF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3B22-9F3A-4BF0-AF00-2C8F9972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9B3F8-381F-4D71-9BBB-3A94171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31D18-335C-48CA-8CB9-C13290E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BF9CC-C14E-44CE-AE93-F937121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B65-0F14-44F5-AB15-F4EEECBC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A9F9-7713-4A34-A982-C5973AD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0DA5D-819A-4688-B8BE-DBB3E6AC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C3DFD-852C-412D-B31A-7C37E97F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01C9-B3E8-4ABE-97E4-327E4F76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A6ED2-33E3-42C8-99BA-E09C3C0C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43D55-2459-44CC-AC98-ACE68C1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4E81-58CC-4485-A9D4-ADB114D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C0156-ED74-4368-9D2C-67BEE49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E05C-1E50-490E-9382-1D83370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4CC1C-BECA-42F6-82BC-F1FD7D9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E4C5-94E3-44FF-B325-75DAD8BD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3966B-0615-4BA0-8EF5-A38A4BD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6A024-C5F8-4A1A-A1C0-39099C2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27D37-0691-4328-A910-5091BAB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1CF72-A4CC-4B8D-AE79-A2897A97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5F105-A135-4185-B109-A496527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605BE-A978-47B2-AFA2-829F9B2D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98D58-2586-46CD-A592-190A52F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E71D-C92A-4F47-BA24-B5DA904C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FB2B5-29D5-4234-AC46-C7BACCE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DDDDF-C14F-4C22-B804-3595484F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E6F-F53C-4052-B323-B0229A68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36F68-D7E6-4165-A0F3-3ADF27F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39C47-0884-41E3-A42A-C242002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8D561-ED2E-410C-A037-3C54E07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281F2-BDE8-4858-86C1-2AC0126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58C18-F840-4CA3-8963-15AA1F8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CD651-5ECE-4B6B-9A88-3A09D95E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BD6BF-1CA8-4783-A60F-0407AE4E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37852-0532-4E87-A94D-E6BDCB4F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DDE7F-F70A-4CE8-8675-00AE9EA8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1E0F8-FC96-430C-B48E-B87E6C8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D11F-A115-43A8-9365-5378125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7BFD9-42A7-43A3-9A60-ADEE1F5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02641-1366-4906-9EC5-78B5B64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EE497-5C75-4CC4-8444-7972D19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72594-9AA6-4A9F-BF9D-76B8A12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F8678-EF31-4F8F-BD5D-9CB6B58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C4ED5-ED0A-4F76-B47E-B6B9F3E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60CA1-16C8-4D75-94B6-4ABEDBA1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22EC0-B962-491C-83EC-9FCEA6F6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98C81-7519-47AD-9EC8-0189D907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B141E-6B9F-4664-A429-5346E26A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349-BB6C-464A-9F79-06743E92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858AF-EC2F-48A3-A987-93CC871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6204B-3D7E-461C-9377-88959B07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6913B-35BA-4303-BC8A-3569FFF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714F7-9D7C-4CF5-8A3F-7762748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C2DC4-1CA9-4C0B-9BD7-8240899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66416-46B9-4123-A987-D9FB1D5D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F5CE4-D280-4568-A14A-C98AB4B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CBE97-D875-4CD9-B512-1B73B76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57530-0289-41C6-A3B4-6431A4E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77CC0-10E0-48AD-A8C2-0B735B55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2247-2B13-4FBB-B22F-BF193DC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3D224-7C7E-4663-A7A4-CC23082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51737-0D21-4840-9F68-30A516F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F6D4C-A773-4F16-9DF9-B6A1CD3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88E3F-3F1F-4CC4-A589-4BD8A72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34F2C-198A-45BC-A94F-1A1159A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AA24F-D3AD-4CE5-8350-70465094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E8536-1892-4162-B713-DC964139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65B90-F708-4589-8E04-F5539C8A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A1053-CE9D-4C79-8EFC-7547DEF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096C2-EB70-4C5C-8DA1-DF4AB4B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B953-EC51-4556-B473-89E1DB5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4C227-5215-4E61-A90B-6FC780F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89EC8-1651-4C15-AA36-F5294F46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F7CE0-B88F-436F-84C2-DB8E063A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10F30-7721-4392-BCCA-3E68AB7F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1D777-C8CB-4F32-ACF4-8CBE767C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63285-F925-494E-B086-CBD4326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16FEB-9628-41F5-8D30-FF9C108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E444D-6346-421C-AFF3-3996187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7F8F2-DE55-491C-B521-64B2AFE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20093-D4FE-42F8-8A92-15C9138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273-288A-4495-B272-8EAF4B38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8D2-EF02-4356-A95A-84508EA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68E40-9A75-4B91-9083-B6F96A3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72812-6535-44D3-BB4B-2F98449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F3009-5AEE-4E8D-B87A-7D4B5DB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F313F-4EB5-40CB-89C0-0CEB1B62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E758A-70E2-4635-BA26-8C4F6FB3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34971-6BF4-4DE7-BE41-A31C52C4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E121C-FE52-4361-80F1-9897744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A546C-D105-4983-B9F7-D9E5F3D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CAC59-A554-453A-A4D0-2B115578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0DAF1-2D8F-4564-9C89-5BF6C120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12AA-87E0-4FB9-9DB5-5F0DA11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C5093-E6B5-4340-BDE9-FF547076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282C0-79A9-49ED-B0BC-AD95EC9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3D380-03F8-401E-B712-6E30F4A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8F492-BA47-434C-A37D-603DE66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338A-75D3-4266-BFF0-2324FCC4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146AB-2A93-46B0-A87E-BF422711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83076-1540-4C7E-9694-DFB27BEB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C4CEA-9492-4621-B5F1-F744874D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BA65E-A458-4591-BBD5-52B70CBE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5D3E4-7122-4025-AABE-87D1059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AC8E-5892-443E-AF85-F843302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B1E85-62D7-421D-94D4-C94F9D1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3D54B-7EDA-4ECC-9B8C-DAF41E6E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9F36E-27DD-4133-993D-95D43675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E312F-397C-4B8F-8A1D-B10B032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8EBFC-4932-4017-8010-DB55CA0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CAE748-5D15-4B61-9C04-671C6312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2FC88-B7ED-4583-83FF-A49E2BBF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0959B-B992-4518-9333-DAEFE5DC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FCE68-A87C-4324-931A-B8B2758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E0313-6F6E-4012-972A-887C84A5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4EF2-2BEC-4D03-A8E6-6431042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7D021-30D2-41A8-B78B-7CA0FA1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F5EF4-2C85-4FEA-A2F4-327878ED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9A6F5-34B5-4A8D-A431-3389D36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58B71-9613-4C62-BFB7-E9B14DE5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7299A-4CF5-4ADE-B05F-7478FF7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43D31-E1D4-47BB-A216-4F9E1357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CC7AD-79D7-449F-8727-31B5AAA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D54D3-8962-41DF-9E56-34A01040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58308-FBA7-4B7C-BA6F-0F0B585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4F8F5-72B4-4E5F-B49F-123D308F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321-B70B-4406-A772-65F3D4A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69628-D8E8-4957-8363-60C8CD6E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417DD-C25B-4E4B-BE20-075DCCE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08CB0-B16A-4513-A9C6-305C8F33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DF11E-42D0-4B6A-AC32-20A51D0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0D73D-985C-4E92-8AD5-383166D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3A3C8-F5E7-4E7B-9892-C8512041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2384C-6FC5-466C-B71C-AC53134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B41F5-D595-4050-B00D-A2E43A5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02843-81F3-4784-A3F2-7CC0340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9F22E-F1ED-45E3-B50A-91D059B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977D-9712-462F-9018-B45EC58E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D56FC-003D-4189-8677-2754C3E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579C8-0E46-4A16-9353-7C357267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844F5-2737-4BDA-8BD4-ED4B467D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5C5D62-2A8D-4986-88B8-D3F8F2DF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15FB96-FA46-4822-AC56-F36829B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1E947-2512-478D-A82D-B08A5E4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28F03E-1F44-4BBE-9BE3-49B0637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DA21D-1D18-46F7-9B82-4A28772E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90129-34FF-43A1-B113-9A9FFC5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CF690-940A-4E1E-A6C2-EABFC5C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31E7-695B-4F09-A8EF-4DC5C812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E85D9C-CC88-43A3-80CB-5A3D418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FF399-A853-483E-A4B7-DFF3301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938CD-64A3-4327-9C3A-94A77C1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B2A87-4D7A-47D8-AC1D-8CCA0D84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0669B6-EA0A-457B-B2F8-18BD5815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4A61F-C6D3-4410-8AAA-0367EF77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CB202-1C3E-4130-896E-F5CBCFF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43900-3F5D-4BB0-A604-F48A3697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B904D9-2D09-479F-8D03-BCE94C43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1E8225-5435-425F-802A-1FA148E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0583-6C97-4A15-B784-AC65D58A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71094B-9225-4151-8961-0CBDE5D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B1B747-C16E-4EA1-93EA-D2038E7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5C319-4D05-42C2-B18B-98E6DEDF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DDED3-F6A1-4D4B-A027-354D399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561722-9B69-4104-8EFC-255722A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0D92A6-6543-44DB-8838-665A682C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4B603A-7192-4DF7-B82C-34741629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6531-2B64-454A-A2FB-8AE594D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9C96-8C23-4DC0-BBB1-570F025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20F-DD6B-4D48-9D74-B791472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4ABA-8A19-42E1-9BE4-7F875E8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9352-867C-443C-B25D-A6752E3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6DEA-396F-4363-8096-367DDCA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5B47-095C-4594-9E36-60FD82B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BA12-A9DD-48C8-B298-263F5BF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9A29-10E5-4392-8965-041CC7C6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BCCB-3D68-48F5-AA67-E3752BAC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AEE0-FBCD-4DD0-8384-88743010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928E-A751-4A19-818E-FFB755B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9015-FF76-4AF9-9FB3-5F1A2D6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378-45B0-4079-AF64-F6D6D423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B7F8-7154-4377-971B-E0E8F29A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7EB0-56D0-4A17-85F8-6FDFD5B1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9369-59E3-4A40-9EE1-88412849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D563-BA60-48C0-8E49-5ABEACD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C4D6-258D-4440-9DF9-BD2B706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D6DA-EFFA-47AE-97EA-BC10C5A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19D7-7E47-4776-9094-67ADFA11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5EA9-6015-42B7-91E0-BA67C0E5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B2A9-2270-479F-ADD7-F286D54F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B809-92C6-474A-B640-DE6BB220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290-B2B1-4F85-9C5E-0DD8A3BF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76D1-0B48-44C5-82EC-05F340E9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9655-AB07-46F4-AEE1-19CDA49C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DE71-1BE1-4B0C-841F-E60ECF6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3F6B-7690-4980-AA12-1A6CC576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37EF6-F359-429E-9EBF-8B81D788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639E4-034F-4515-8011-FA7FB4F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4CB0-7899-48E6-9945-6A7DF75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2EBA-13AD-4824-AA84-EEFD604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42F0-CDBE-4171-B3E2-5F57998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78E0-F8A1-4CBF-AF0C-B0F1F72E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724-B500-4CC5-95B4-C4C5B65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D1D9-1115-4A67-B9D7-1669289E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F13FE-7936-428C-8205-C85FF580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35C1-34A0-4883-89B8-EE027B5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DDAC-A4AE-4AA7-B3AE-EE457E6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1413-EE04-48E1-8381-FEF90F1A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5455-4EB8-4197-BF7F-753E48A8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4AD5-5276-4A28-A6E0-45EE13F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039CD-2722-48AE-AAF7-9B5CCF9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FF0A-9A3E-4CF3-A9E0-47CD201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5873-0B7B-4069-9F2F-FBE44DA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2B5-18A7-4EB5-8990-63C3BF7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6C78-B2D4-4BA8-89E0-6094180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3508-8DE4-4FE8-AF45-D349E0F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D2DE-7077-4459-91D2-C5FBC93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D1C1-0312-4B26-9C4B-9FDAC8DF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F42E-1BEA-46B2-8AAF-244F249D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3BC2-9FEB-41A1-BF0D-8DC4C43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0403-0CED-4D17-A2A7-3EECB90C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F206-6051-4D3D-AE58-415DFDC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BE689-B0AA-4CC6-9459-77221EDE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E24F-F6B4-4BC2-A77D-5B40B82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29D-BE6A-412D-B39C-B93A997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6BCF-B97C-4E85-8CC1-EC760C5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2274-7ADE-4BDD-9DF6-739765B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E4B1-13B8-4A34-A32E-27B6949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F815-28B6-4D44-9686-5F39A36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D858-01FD-4AF8-BA9F-874AF12E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70C8-B7AA-4486-BB71-7627123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0EA8-DC30-4836-97A4-E89BAEFF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57B5C-F026-4763-B315-8328980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42AB9-943A-4C8C-B4A9-63AB2A0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0137-39A1-4BFF-830A-D1570359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47B-EC69-42A5-807C-47A3129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F0C7-A457-4029-96C2-30F56526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60CA-8B9E-432A-AD5D-A21FFA4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578B-B9CA-45AE-A6E4-094049B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CC59-D65F-4E19-8250-FD5ECD9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632B2-396E-411D-8785-A450671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D890-FC69-46F7-93C0-9273D49F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5E93-5E24-43BB-BDC4-3A4EFE6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26C27-9616-4B2B-AD7A-43EDCDBB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A7AB0-0ABE-4271-BFBC-9DCBA40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810D-EFC6-4FE1-B197-5B8F0703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A647-9CDF-4FA9-A559-53415A7402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6FA-FFDB-48F7-B49F-A432FA97E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969-DEEB-4F9C-8C35-8A5FF7D1B0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EB15-824A-4A4B-903A-E9AAAA247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1ED-38A9-489F-85B4-6F6D51F5A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EF9B-A689-40A3-A580-AFF5CEEC1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300-7FDB-4C3C-8309-88B775E56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62E-A56D-4CBB-B068-423A89B0A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9E7-28A3-43A7-8099-77CABACDA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091-5618-4A35-93C8-F8E6841C3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869-033E-435A-8F30-0DFAA3ACF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A77-CD29-406D-806F-1EFC756BE6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DE8-EB85-4E42-A413-E658059E0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653-B506-4C01-B2A2-5EC4D0A28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FF4-2AD9-4BA5-BE78-5533DB3BF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FB8-3EEE-498B-ABDC-24BBF6874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DD47-C6EC-42D7-A0FC-6454AC2CF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F33-1EE3-4426-A95E-AA7807271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B57-C38A-46DE-9CC6-BC014C33A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CAA-7EBB-4DC8-919A-5FA4A20E5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2B6-940E-43BE-8461-44809E1DC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9DD-E581-4C16-9307-1D89393C6B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6E2-A464-4676-A497-A34A7C2C9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978-2924-4595-A1E2-8F0687151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FF1-0D92-4C3F-B039-09497038FE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F447-CD9E-4D48-9962-082D7094B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CD2-F940-415A-8A59-D1CF5A593E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5F6-F27B-45D3-8274-5CD82DB3B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D8C-02B7-4483-AC94-29878257A3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36B3-A3B3-42A7-8DDA-AC31AB74BA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F4E-3B0C-4C9E-9E0E-80642E380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E9C-C6A6-47A8-A1FB-4DB1A22DA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E28-07DF-4395-8084-65604F3B2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718-2F3E-4523-A1B2-81AB56D482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E64-A7BB-47C6-AB75-07F1AA098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9FB-40BE-4D7F-8AE7-0FAACE071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026-FF06-4A02-8122-5A54BCBFA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4768-21E6-4F51-AF71-644EEF802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5E0-3150-434E-AE0B-45BE5787A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F439-3E92-4758-A647-706C8DCE4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F15-7EF6-4058-ABA5-DB84961E8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595E-13E4-4A55-B2C2-5553FE61BD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17600" y="3006720"/>
            <a:ext cx="83088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71680" y="765000"/>
            <a:ext cx="8001000" cy="5820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6370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116000" y="51292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1116000" y="602136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580000" y="508644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580000" y="5978520"/>
            <a:ext cx="309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04840" y="814320"/>
            <a:ext cx="8734320" cy="5229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83528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7307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65164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1619280" y="463860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6"/>
          <a:stretch/>
        </p:blipFill>
        <p:spPr>
          <a:xfrm>
            <a:off x="2987640" y="5430960"/>
            <a:ext cx="23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514440" y="1228680"/>
            <a:ext cx="8115120" cy="4400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403280" y="31273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176800" y="31701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651672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547640" y="407664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2556000" y="4883040"/>
            <a:ext cx="30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209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722680"/>
            <a:ext cx="56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116000" y="443700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568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23920" y="1133640"/>
            <a:ext cx="8696160" cy="459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041800"/>
            <a:ext cx="52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95120" y="898560"/>
            <a:ext cx="8753760" cy="5429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684360" y="560376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43000" y="1090440"/>
            <a:ext cx="8658000" cy="4677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2795760"/>
            <a:ext cx="44658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44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44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5013360"/>
            <a:ext cx="446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2" descr=""/>
          <p:cNvPicPr/>
          <p:nvPr/>
        </p:nvPicPr>
        <p:blipFill>
          <a:blip r:embed="rId1"/>
          <a:stretch/>
        </p:blipFill>
        <p:spPr>
          <a:xfrm>
            <a:off x="162000" y="663480"/>
            <a:ext cx="8820000" cy="60962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1128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8360" y="6035760"/>
            <a:ext cx="49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